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8578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1200" y="3735360"/>
            <a:ext cx="8578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520" y="115740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1200" y="373536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520" y="373536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2762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2080" y="1157400"/>
            <a:ext cx="2762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2600" y="1157400"/>
            <a:ext cx="2762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1200" y="3735360"/>
            <a:ext cx="2762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2080" y="3735360"/>
            <a:ext cx="2762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2600" y="3735360"/>
            <a:ext cx="2762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41200" y="1157400"/>
            <a:ext cx="85788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85788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41864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520" y="1157400"/>
            <a:ext cx="41864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41200" y="115560"/>
            <a:ext cx="86868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520" y="1157400"/>
            <a:ext cx="41864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41200" y="373536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1200" y="1157400"/>
            <a:ext cx="85788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41864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7520" y="115740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7520" y="373536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7520" y="115740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41200" y="3735360"/>
            <a:ext cx="8578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8578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41200" y="3735360"/>
            <a:ext cx="8578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37520" y="115740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41200" y="373536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7520" y="373536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2762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42080" y="1157400"/>
            <a:ext cx="2762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42600" y="1157400"/>
            <a:ext cx="2762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41200" y="3735360"/>
            <a:ext cx="2762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42080" y="3735360"/>
            <a:ext cx="2762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42600" y="3735360"/>
            <a:ext cx="2762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41200" y="1157400"/>
            <a:ext cx="85788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85788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41864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7520" y="1157400"/>
            <a:ext cx="41864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85788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241200" y="115560"/>
            <a:ext cx="86868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37520" y="1157400"/>
            <a:ext cx="41864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41200" y="373536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41864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37520" y="115740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37520" y="373536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37520" y="115740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41200" y="3735360"/>
            <a:ext cx="8578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8578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41200" y="3735360"/>
            <a:ext cx="8578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37520" y="115740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41200" y="373536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37520" y="373536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2762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42080" y="1157400"/>
            <a:ext cx="2762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42600" y="1157400"/>
            <a:ext cx="2762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241200" y="3735360"/>
            <a:ext cx="2762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42080" y="3735360"/>
            <a:ext cx="2762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42600" y="3735360"/>
            <a:ext cx="276228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41864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520" y="1157400"/>
            <a:ext cx="41864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1200" y="115560"/>
            <a:ext cx="86868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520" y="1157400"/>
            <a:ext cx="41864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1200" y="373536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418644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520" y="115740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520" y="373536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1200" y="115740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520" y="1157400"/>
            <a:ext cx="418644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1200" y="3735360"/>
            <a:ext cx="8578800" cy="23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5"/>
          <p:cNvSpPr/>
          <p:nvPr/>
        </p:nvSpPr>
        <p:spPr>
          <a:xfrm>
            <a:off x="250920" y="115920"/>
            <a:ext cx="8713800" cy="865080"/>
          </a:xfrm>
          <a:prstGeom prst="rect">
            <a:avLst/>
          </a:prstGeom>
          <a:solidFill>
            <a:srgbClr val="fce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4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41200" y="1157400"/>
            <a:ext cx="85788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7524720" y="6093000"/>
            <a:ext cx="1487520" cy="48708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179280" y="6597720"/>
            <a:ext cx="8785440" cy="108000"/>
          </a:xfrm>
          <a:prstGeom prst="rect">
            <a:avLst/>
          </a:prstGeom>
          <a:solidFill>
            <a:srgbClr val="7abc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50920" y="115920"/>
            <a:ext cx="8713800" cy="865080"/>
          </a:xfrm>
          <a:prstGeom prst="rect">
            <a:avLst/>
          </a:prstGeom>
          <a:solidFill>
            <a:srgbClr val="fce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7524720" y="6093000"/>
            <a:ext cx="1487520" cy="4870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9"/>
          <p:cNvSpPr/>
          <p:nvPr/>
        </p:nvSpPr>
        <p:spPr>
          <a:xfrm>
            <a:off x="179280" y="6597720"/>
            <a:ext cx="8785440" cy="108000"/>
          </a:xfrm>
          <a:prstGeom prst="rect">
            <a:avLst/>
          </a:prstGeom>
          <a:solidFill>
            <a:srgbClr val="7abc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524720" y="6031080"/>
            <a:ext cx="1440000" cy="50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3"/>
          <a:srcRect l="0" t="0" r="0" b="25767"/>
          <a:stretch/>
        </p:blipFill>
        <p:spPr>
          <a:xfrm>
            <a:off x="250920" y="115920"/>
            <a:ext cx="8713800" cy="87156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8"/>
          <p:cNvGrpSpPr/>
          <p:nvPr/>
        </p:nvGrpSpPr>
        <p:grpSpPr>
          <a:xfrm>
            <a:off x="165240" y="1390680"/>
            <a:ext cx="8799480" cy="2759040"/>
            <a:chOff x="165240" y="1390680"/>
            <a:chExt cx="8799480" cy="2759040"/>
          </a:xfrm>
        </p:grpSpPr>
        <p:pic>
          <p:nvPicPr>
            <p:cNvPr id="47" name="Picture 10" descr=""/>
            <p:cNvPicPr/>
            <p:nvPr/>
          </p:nvPicPr>
          <p:blipFill>
            <a:blip r:embed="rId4"/>
            <a:srcRect l="1370" t="6536" r="73902" b="0"/>
            <a:stretch/>
          </p:blipFill>
          <p:spPr>
            <a:xfrm>
              <a:off x="165240" y="1390680"/>
              <a:ext cx="2971440" cy="275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1" descr=""/>
            <p:cNvPicPr/>
            <p:nvPr/>
          </p:nvPicPr>
          <p:blipFill>
            <a:blip r:embed="rId5"/>
            <a:srcRect l="50004" t="6536" r="1492" b="0"/>
            <a:stretch/>
          </p:blipFill>
          <p:spPr>
            <a:xfrm>
              <a:off x="3136680" y="1390680"/>
              <a:ext cx="5828040" cy="275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Rectangle 12"/>
          <p:cNvSpPr/>
          <p:nvPr/>
        </p:nvSpPr>
        <p:spPr>
          <a:xfrm>
            <a:off x="250920" y="1042920"/>
            <a:ext cx="8713800" cy="216000"/>
          </a:xfrm>
          <a:prstGeom prst="rect">
            <a:avLst/>
          </a:prstGeom>
          <a:solidFill>
            <a:srgbClr val="fce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4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41200" y="1157400"/>
            <a:ext cx="85788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250920" y="115920"/>
            <a:ext cx="8713800" cy="865080"/>
          </a:xfrm>
          <a:prstGeom prst="rect">
            <a:avLst/>
          </a:prstGeom>
          <a:solidFill>
            <a:srgbClr val="fce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7524720" y="6093000"/>
            <a:ext cx="1487520" cy="487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179280" y="6597720"/>
            <a:ext cx="8785440" cy="108000"/>
          </a:xfrm>
          <a:prstGeom prst="rect">
            <a:avLst/>
          </a:prstGeom>
          <a:solidFill>
            <a:srgbClr val="7abc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3"/>
          <a:srcRect l="0" t="0" r="0" b="25767"/>
          <a:stretch/>
        </p:blipFill>
        <p:spPr>
          <a:xfrm>
            <a:off x="250920" y="115920"/>
            <a:ext cx="8713800" cy="871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7524720" y="6031080"/>
            <a:ext cx="1440000" cy="50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250920" y="1025640"/>
            <a:ext cx="8713800" cy="215640"/>
          </a:xfrm>
          <a:prstGeom prst="rect">
            <a:avLst/>
          </a:prstGeom>
          <a:solidFill>
            <a:srgbClr val="fce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4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7a4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241200" y="1157400"/>
            <a:ext cx="85788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Mackay Sugar’s 2013 Sugar Sales to Growers</a:t>
            </a:r>
            <a:endParaRPr b="1" lang="en-US" sz="2800" spc="-1" strike="noStrike">
              <a:solidFill>
                <a:srgbClr val="007a49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24000" y="1844640"/>
          <a:ext cx="5946480" cy="4100400"/>
        </p:xfrm>
        <a:graphic>
          <a:graphicData uri="http://schemas.openxmlformats.org/drawingml/2006/table">
            <a:tbl>
              <a:tblPr/>
              <a:tblGrid>
                <a:gridCol w="3463920"/>
                <a:gridCol w="1098360"/>
                <a:gridCol w="1384200"/>
              </a:tblGrid>
              <a:tr h="25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course Mil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the Overpass in front of Main Office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Octo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0am to 4.30pm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an Mi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eside main offic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Octo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0am to 1.00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get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ext to rodeo ground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Octo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pm to 4.30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ear St. Helens Bowls Club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Octo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0am to 1.00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ttabu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ear Kuttabul Hot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nes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Octo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pm to 4.30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ystowe Mi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ear tennis court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Octo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0am to 1.00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bush Ro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trees at entrance to Lex Hamilton’s farm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Octo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pm to 4.00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leigh Mi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ear cricket groun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Octo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0am to 4.30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cecourse Mil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the Overpass in front of Main Office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Octo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0am to 4.30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Box 4"/>
          <p:cNvSpPr/>
          <p:nvPr/>
        </p:nvSpPr>
        <p:spPr>
          <a:xfrm>
            <a:off x="6346800" y="1268280"/>
            <a:ext cx="266400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$25.00 per b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 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5kg B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aw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hite Refined Sug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Preferred payment for sugar will be cash or chequ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Deduction from Cane Pay will only be completed if proof of farm identification number ID is provided, by way of Grower Card or Cane Pay advic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o orders will be necessar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324000" y="6021360"/>
            <a:ext cx="60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Please Note: There will be no sugar available for purchase after the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                        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da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00:45:03Z</dcterms:created>
  <dc:creator>Jeanette Toon</dc:creator>
  <dc:description/>
  <dc:language>en-US</dc:language>
  <cp:lastModifiedBy>Jeanette Toon</cp:lastModifiedBy>
  <cp:lastPrinted>2013-07-17T23:25:34Z</cp:lastPrinted>
  <dcterms:modified xsi:type="dcterms:W3CDTF">2013-09-18T03:46:08Z</dcterms:modified>
  <cp:revision>13</cp:revision>
  <dc:subject/>
  <dc:title>2013 Sugar S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4E9FEAD11B9CC5489FB9CE5E00B6C6DC008C84ADC2A9ED794B9F19073251180F2C</vt:lpwstr>
  </property>
  <property fmtid="{D5CDD505-2E9C-101B-9397-08002B2CF9AE}" pid="3" name="Publication Type">
    <vt:lpwstr>Notices</vt:lpwstr>
  </property>
  <property fmtid="{D5CDD505-2E9C-101B-9397-08002B2CF9AE}" pid="4" name="Publication Type0">
    <vt:lpwstr>Notices</vt:lpwstr>
  </property>
  <property fmtid="{D5CDD505-2E9C-101B-9397-08002B2CF9AE}" pid="5" name="PublishingExpirationDate">
    <vt:lpwstr>2100-12-31T00:00:00Z</vt:lpwstr>
  </property>
  <property fmtid="{D5CDD505-2E9C-101B-9397-08002B2CF9AE}" pid="6" name="PublishingStartDate">
    <vt:lpwstr>2013-09-19T00:00:00Z</vt:lpwstr>
  </property>
  <property fmtid="{D5CDD505-2E9C-101B-9397-08002B2CF9AE}" pid="7" name="_dlc_DocId">
    <vt:lpwstr>MSLDOC-30-369</vt:lpwstr>
  </property>
  <property fmtid="{D5CDD505-2E9C-101B-9397-08002B2CF9AE}" pid="8" name="_dlc_DocIdItemGuid">
    <vt:lpwstr>2ceba021-db14-4cec-871c-c81f8363133b</vt:lpwstr>
  </property>
  <property fmtid="{D5CDD505-2E9C-101B-9397-08002B2CF9AE}" pid="9" name="_dlc_DocIdUrl">
    <vt:lpwstr>http://www.mackaysugar.com.au/news/_layouts/DocIdRedir.aspx?ID=MSLDOC-30-369, MSLDOC-30-369</vt:lpwstr>
  </property>
</Properties>
</file>